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7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105-1FD6-411E-ADAA-EB0C4F9F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B5D-1EC2-4EBD-9142-E4F22B0E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96E-F228-4937-AC73-BEBC2C6A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268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9476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60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0268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9476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CA3-F652-4733-A758-3D594007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6A7-65C8-4BBB-A857-D8F47293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475-529F-481F-88F7-2CC4466F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264-FE29-42B5-95F3-504BB855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AF2-9A62-4394-9018-9F1B0228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600" y="382320"/>
            <a:ext cx="2638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B1E-8538-408D-9B99-9DC92B28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5CB-9731-4B4A-B8D7-2A5C040B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E33-EF97-4F5B-B160-C25990E3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935-49D3-4F42-91FD-184CE526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32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3496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960" y="6671880"/>
            <a:ext cx="68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4480" y="6671880"/>
            <a:ext cx="1031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1800" y="6671880"/>
            <a:ext cx="687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E5780-67C7-4129-AF65-05368626E28C}" type="slidenum">
              <a:rPr b="0" lang="es-E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think-cell data - do not delete" descr=""/>
          <p:cNvPicPr/>
          <p:nvPr/>
        </p:nvPicPr>
        <p:blipFill>
          <a:blip r:embed="rId2"/>
          <a:stretch/>
        </p:blipFill>
        <p:spPr>
          <a:xfrm>
            <a:off x="0" y="1440"/>
            <a:ext cx="36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hink-cell data - do not delete" descr=""/>
          <p:cNvPicPr/>
          <p:nvPr/>
        </p:nvPicPr>
        <p:blipFill>
          <a:blip r:embed="rId1"/>
          <a:stretch/>
        </p:blipFill>
        <p:spPr>
          <a:xfrm>
            <a:off x="-1376856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934920" y="6611760"/>
            <a:ext cx="2125800" cy="208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-4680" y="6888240"/>
            <a:ext cx="32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Gill Sans MT"/>
                <a:ea typeface="Arial"/>
              </a:rPr>
              <a:t>Consejería</a:t>
            </a:r>
            <a:r>
              <a:rPr b="0" lang="es-ES" sz="400" spc="-1" strike="noStrike">
                <a:solidFill>
                  <a:srgbClr val="ffffff"/>
                </a:solidFill>
                <a:latin typeface="Gill Sans MT"/>
                <a:ea typeface="Arial"/>
              </a:rPr>
              <a:t> d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ffffff"/>
                </a:solidFill>
                <a:latin typeface="Gill Sans MT"/>
                <a:ea typeface="Arial"/>
              </a:rPr>
              <a:t>XXX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4" descr=""/>
          <p:cNvPicPr/>
          <p:nvPr/>
        </p:nvPicPr>
        <p:blipFill>
          <a:blip r:embed="rId3"/>
          <a:stretch/>
        </p:blipFill>
        <p:spPr>
          <a:xfrm>
            <a:off x="0" y="6888240"/>
            <a:ext cx="3060720" cy="312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49320" y="687384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Gill Sans MT"/>
                <a:ea typeface="Arial"/>
              </a:rPr>
              <a:t>Consejería d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Gill Sans MT"/>
                <a:ea typeface="Arial"/>
              </a:rPr>
              <a:t>XX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08:08:51Z</dcterms:created>
  <dc:creator>Calviño Gonzalez, Maria</dc:creator>
  <dc:description/>
  <dc:language>en-US</dc:language>
  <cp:lastModifiedBy>Calviño Gonzalez, Maria</cp:lastModifiedBy>
  <dcterms:modified xsi:type="dcterms:W3CDTF">2025-06-11T13:32:21Z</dcterms:modified>
  <cp:revision>11</cp:revision>
  <dc:subject/>
  <dc:title>PowerPoint Presentation</dc:title>
</cp:coreProperties>
</file>